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gunshot.wav" ContentType="audio/x-wav"/>
  <Override PartName="/ppt/media/ricochet.wav" ContentType="audio/x-wav"/>
  <Override PartName="/ppt/media/cashreg.wav" ContentType="audio/x-wav"/>
  <Override PartName="/ppt/media/camera.wav" ContentType="audio/x-wav"/>
  <Override PartName="/ppt/media/laser.wav" ContentType="audio/x-wav"/>
  <Override PartName="/ppt/media/zapbig0g.wav" ContentType="audio/x-wav"/>
  <Override PartName="/ppt/media/zipdn102.wav" ContentType="audio/x-wav"/>
  <Override PartName="/ppt/media/zapvib04.wav" ContentType="audio/x-wav"/>
  <Override PartName="/ppt/media/hzipup01.wav" ContentType="audio/x-wav"/>
  <Override PartName="/ppt/media/caralarmoff.wav" ContentType="audio/x-wav"/>
  <Override PartName="/ppt/media/lzipup01.wav" ContentType="audio/x-wav"/>
  <Override PartName="/ppt/media/bserie06.wav" ContentType="audio/x-wav"/>
  <Override PartName="/ppt/media/image1.wmf" ContentType="image/x-wmf"/>
  <Override PartName="/ppt/media/driveby.wav" ContentType="audio/x-wav"/>
  <Override PartName="/ppt/media/spac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BDA2-0E4E-4F37-9C12-80F07391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3A87-AEE5-4099-97DC-3226A9C7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DDFB-2512-43EF-B096-2AD7E0B1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32D-F297-4F2C-9092-2DAF9DBD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F657-90EA-4895-9D91-82B03527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999-5256-44B0-8A43-76E6A42F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5A4-1067-463A-BA57-84D9903E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E82-B737-45B4-BC90-645A3CD0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5370-D88F-432C-9F65-8317000E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206-39E3-4C69-A261-61AC591C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752-9FB3-4367-9DED-6938369C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301-4D14-463A-9E04-7C32D656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15B1-038B-4C2C-9C7E-54FD3D3A8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zapvib04.wav"/><Relationship Id="rId4" Type="http://schemas.openxmlformats.org/officeDocument/2006/relationships/audio" Target="../media/hzipup01.wav"/><Relationship Id="rId5" Type="http://schemas.openxmlformats.org/officeDocument/2006/relationships/audio" Target="../media/zipdn102.wav"/><Relationship Id="rId6" Type="http://schemas.openxmlformats.org/officeDocument/2006/relationships/audio" Target="../media/hzipup01.wav"/><Relationship Id="rId7" Type="http://schemas.openxmlformats.org/officeDocument/2006/relationships/audio" Target="../media/zipdn102.wav"/><Relationship Id="rId8" Type="http://schemas.openxmlformats.org/officeDocument/2006/relationships/audio" Target="../media/space.wav"/><Relationship Id="rId9" Type="http://schemas.openxmlformats.org/officeDocument/2006/relationships/audio" Target="../media/space.wav"/><Relationship Id="rId10" Type="http://schemas.openxmlformats.org/officeDocument/2006/relationships/audio" Target="../media/zapvib04.wav"/><Relationship Id="rId11" Type="http://schemas.openxmlformats.org/officeDocument/2006/relationships/audio" Target="../media/caralarmoff.wav"/><Relationship Id="rId12" Type="http://schemas.openxmlformats.org/officeDocument/2006/relationships/audio" Target="../media/caralarmoff.wav"/><Relationship Id="rId13" Type="http://schemas.openxmlformats.org/officeDocument/2006/relationships/audio" Target="../media/zipdn102.wav"/><Relationship Id="rId14" Type="http://schemas.openxmlformats.org/officeDocument/2006/relationships/audio" Target="../media/zipdn102.wav"/><Relationship Id="rId15" Type="http://schemas.openxmlformats.org/officeDocument/2006/relationships/audio" Target="../media/zapbig0g.wav"/><Relationship Id="rId16" Type="http://schemas.openxmlformats.org/officeDocument/2006/relationships/audio" Target="../media/hzipup01.wav"/><Relationship Id="rId17" Type="http://schemas.openxmlformats.org/officeDocument/2006/relationships/audio" Target="../media/hzipup01.wav"/><Relationship Id="rId18" Type="http://schemas.openxmlformats.org/officeDocument/2006/relationships/audio" Target="../media/hzipup01.wav"/><Relationship Id="rId19" Type="http://schemas.openxmlformats.org/officeDocument/2006/relationships/audio" Target="../media/zipdn102.wav"/><Relationship Id="rId20" Type="http://schemas.openxmlformats.org/officeDocument/2006/relationships/audio" Target="../media/hzipup01.wav"/><Relationship Id="rId21" Type="http://schemas.openxmlformats.org/officeDocument/2006/relationships/audio" Target="../media/zipdn102.wav"/><Relationship Id="rId22" Type="http://schemas.openxmlformats.org/officeDocument/2006/relationships/audio" Target="../media/space.wav"/><Relationship Id="rId23" Type="http://schemas.openxmlformats.org/officeDocument/2006/relationships/audio" Target="../media/space.wav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apvib04.wav"/><Relationship Id="rId2" Type="http://schemas.openxmlformats.org/officeDocument/2006/relationships/audio" Target="../media/zipdn102.wav"/><Relationship Id="rId3" Type="http://schemas.openxmlformats.org/officeDocument/2006/relationships/audio" Target="../media/zipdn102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space.wav"/><Relationship Id="rId7" Type="http://schemas.openxmlformats.org/officeDocument/2006/relationships/audio" Target="../media/spac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apvib04.wav"/><Relationship Id="rId2" Type="http://schemas.openxmlformats.org/officeDocument/2006/relationships/audio" Target="../media/zipdn102.wav"/><Relationship Id="rId3" Type="http://schemas.openxmlformats.org/officeDocument/2006/relationships/audio" Target="../media/zipdn102.wav"/><Relationship Id="rId4" Type="http://schemas.openxmlformats.org/officeDocument/2006/relationships/audio" Target="../media/zapbig0g.wav"/><Relationship Id="rId5" Type="http://schemas.openxmlformats.org/officeDocument/2006/relationships/audio" Target="../media/space.wav"/><Relationship Id="rId6" Type="http://schemas.openxmlformats.org/officeDocument/2006/relationships/audio" Target="../media/spac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zapbig0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bserie06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gunshot.wav"/><Relationship Id="rId13" Type="http://schemas.openxmlformats.org/officeDocument/2006/relationships/audio" Target="../media/driveby.wav"/><Relationship Id="rId14" Type="http://schemas.openxmlformats.org/officeDocument/2006/relationships/audio" Target="../media/cashreg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bserie06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gunshot.wav"/><Relationship Id="rId23" Type="http://schemas.openxmlformats.org/officeDocument/2006/relationships/audio" Target="../media/driveby.wav"/><Relationship Id="rId24" Type="http://schemas.openxmlformats.org/officeDocument/2006/relationships/audio" Target="../media/cashreg.wav"/><Relationship Id="rId25" Type="http://schemas.openxmlformats.org/officeDocument/2006/relationships/audio" Target="../media/cashreg.wav"/><Relationship Id="rId26" Type="http://schemas.openxmlformats.org/officeDocument/2006/relationships/audio" Target="../media/cashreg.wav"/><Relationship Id="rId27" Type="http://schemas.openxmlformats.org/officeDocument/2006/relationships/audio" Target="../media/cashreg.wav"/><Relationship Id="rId28" Type="http://schemas.openxmlformats.org/officeDocument/2006/relationships/audio" Target="../media/bserie06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gunshot.wav"/><Relationship Id="rId33" Type="http://schemas.openxmlformats.org/officeDocument/2006/relationships/audio" Target="../media/driveby.wav"/><Relationship Id="rId34" Type="http://schemas.openxmlformats.org/officeDocument/2006/relationships/audio" Target="../media/cashreg.wav"/><Relationship Id="rId35" Type="http://schemas.openxmlformats.org/officeDocument/2006/relationships/audio" Target="../media/cashreg.wav"/><Relationship Id="rId36" Type="http://schemas.openxmlformats.org/officeDocument/2006/relationships/audio" Target="../media/cashreg.wav"/><Relationship Id="rId37" Type="http://schemas.openxmlformats.org/officeDocument/2006/relationships/audio" Target="../media/cashreg.wav"/><Relationship Id="rId38" Type="http://schemas.openxmlformats.org/officeDocument/2006/relationships/audio" Target="../media/bserie06.wav"/><Relationship Id="rId39" Type="http://schemas.openxmlformats.org/officeDocument/2006/relationships/audio" Target="../media/laser.wav"/><Relationship Id="rId40" Type="http://schemas.openxmlformats.org/officeDocument/2006/relationships/audio" Target="../media/laser.wav"/><Relationship Id="rId41" Type="http://schemas.openxmlformats.org/officeDocument/2006/relationships/audio" Target="../media/laser.wav"/><Relationship Id="rId42" Type="http://schemas.openxmlformats.org/officeDocument/2006/relationships/audio" Target="../media/gunshot.wav"/><Relationship Id="rId43" Type="http://schemas.openxmlformats.org/officeDocument/2006/relationships/audio" Target="../media/driveby.wav"/><Relationship Id="rId4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zapbig0g.wav"/><Relationship Id="rId4" Type="http://schemas.openxmlformats.org/officeDocument/2006/relationships/audio" Target="../media/cashreg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ricochet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audio" Target="../media/driveby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gunshot.wav"/><Relationship Id="rId16" Type="http://schemas.openxmlformats.org/officeDocument/2006/relationships/audio" Target="../media/driveby.wav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ricochet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driveby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gunshot.wav"/><Relationship Id="rId13" Type="http://schemas.openxmlformats.org/officeDocument/2006/relationships/audio" Target="../media/driveby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ricochet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driveby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gunshot.wav"/><Relationship Id="rId13" Type="http://schemas.openxmlformats.org/officeDocument/2006/relationships/audio" Target="../media/driveby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ricochet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driveby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gunshot.wav"/><Relationship Id="rId15" Type="http://schemas.openxmlformats.org/officeDocument/2006/relationships/audio" Target="../media/driveby.wav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466560" y="1838160"/>
                <a:ext cx="308772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2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 on One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819440" y="3476520"/>
                <a:ext cx="5727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414440" y="2550960"/>
            <a:ext cx="7826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71720" y="2509920"/>
            <a:ext cx="6685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346040" y="2563920"/>
                <a:ext cx="997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727360" y="2558880"/>
                <a:ext cx="963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460600" y="3376440"/>
                <a:ext cx="1528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341960" y="1731960"/>
                <a:ext cx="48020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686640" y="5051520"/>
                <a:ext cx="6206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718320" y="4046400"/>
            <a:ext cx="7826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175600" y="4005360"/>
            <a:ext cx="6685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931080" y="4037040"/>
                <a:ext cx="4334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8302680" y="4033800"/>
                <a:ext cx="419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7351560" y="4870440"/>
                <a:ext cx="1528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792680" y="3125880"/>
            <a:ext cx="43876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8277120" y="2484360"/>
                <a:ext cx="866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595920" y="2505240"/>
                <a:ext cx="866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8143920" y="3273480"/>
                <a:ext cx="100008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621480" y="3284640"/>
                <a:ext cx="13906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919840" y="1890720"/>
                <a:ext cx="56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681960" y="1890720"/>
                <a:ext cx="5648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74840" y="1814400"/>
                <a:ext cx="3558960" cy="17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2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 on One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046240" y="4038480"/>
                <a:ext cx="5731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711520" y="3938760"/>
                <a:ext cx="1481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50960" y="2278080"/>
                <a:ext cx="14446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514680" y="2216160"/>
                <a:ext cx="1527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 flipV="1">
            <a:off x="958680" y="2406600"/>
            <a:ext cx="641520" cy="519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905120" y="2940120"/>
            <a:ext cx="641160" cy="519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2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 on Both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00040" y="1959120"/>
                <a:ext cx="495000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1057320" y="3094200"/>
            <a:ext cx="43876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029040" y="2516040"/>
                <a:ext cx="124308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393920" y="2519280"/>
                <a:ext cx="12445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031840" y="3354480"/>
                <a:ext cx="5731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612880" y="3224160"/>
                <a:ext cx="1433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311120" y="1582560"/>
                <a:ext cx="5558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6" name=""/>
          <p:cNvGraphicFramePr/>
          <p:nvPr/>
        </p:nvGraphicFramePr>
        <p:xfrm>
          <a:off x="1803240" y="1509840"/>
          <a:ext cx="55584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3240" y="1509840"/>
                    <a:ext cx="5558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373480" y="1455840"/>
                <a:ext cx="4730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333360" y="2262240"/>
            <a:ext cx="3586320" cy="459720"/>
            <a:chOff x="333360" y="2262240"/>
            <a:chExt cx="3586320" cy="459720"/>
          </a:xfrm>
        </p:grpSpPr>
        <p:sp>
          <p:nvSpPr>
            <p:cNvPr id="90" name=""/>
            <p:cNvSpPr/>
            <p:nvPr/>
          </p:nvSpPr>
          <p:spPr>
            <a:xfrm>
              <a:off x="333360" y="2490840"/>
              <a:ext cx="358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9200" y="2262240"/>
              <a:ext cx="337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     l    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873080" y="2585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33640" y="2351160"/>
            <a:ext cx="304920" cy="3045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09600" y="2490840"/>
            <a:ext cx="1736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7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 different kinds of inequality grap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51040" y="25988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8800" y="2575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77880" y="1476360"/>
                <a:ext cx="5983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622840" y="1581120"/>
                <a:ext cx="5558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114960" y="1530360"/>
                <a:ext cx="555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684840" y="1454040"/>
                <a:ext cx="47304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2" name=""/>
          <p:cNvGrpSpPr/>
          <p:nvPr/>
        </p:nvGrpSpPr>
        <p:grpSpPr>
          <a:xfrm>
            <a:off x="4645080" y="2260440"/>
            <a:ext cx="3585960" cy="459720"/>
            <a:chOff x="4645080" y="2260440"/>
            <a:chExt cx="3585960" cy="459720"/>
          </a:xfrm>
        </p:grpSpPr>
        <p:sp>
          <p:nvSpPr>
            <p:cNvPr id="103" name=""/>
            <p:cNvSpPr/>
            <p:nvPr/>
          </p:nvSpPr>
          <p:spPr>
            <a:xfrm>
              <a:off x="4645080" y="2489040"/>
              <a:ext cx="358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50920" y="2260440"/>
              <a:ext cx="337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     l    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184800" y="25844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45360" y="2349360"/>
            <a:ext cx="304560" cy="3049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15000" y="2489040"/>
            <a:ext cx="1649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62400" y="25970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0520" y="25732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989600" y="1474920"/>
                <a:ext cx="5983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308240" y="4336920"/>
                <a:ext cx="555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00360" y="4241880"/>
                <a:ext cx="555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370240" y="4210200"/>
                <a:ext cx="4730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330120" y="5016600"/>
            <a:ext cx="3586320" cy="459720"/>
            <a:chOff x="330120" y="5016600"/>
            <a:chExt cx="3586320" cy="459720"/>
          </a:xfrm>
        </p:grpSpPr>
        <p:sp>
          <p:nvSpPr>
            <p:cNvPr id="115" name=""/>
            <p:cNvSpPr/>
            <p:nvPr/>
          </p:nvSpPr>
          <p:spPr>
            <a:xfrm>
              <a:off x="330120" y="5245200"/>
              <a:ext cx="358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5960" y="5016600"/>
              <a:ext cx="337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     l    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870200" y="53402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0400" y="5105520"/>
            <a:ext cx="304920" cy="304560"/>
          </a:xfrm>
          <a:prstGeom prst="ellipse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06360" y="5245200"/>
            <a:ext cx="1736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7800" y="5353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95560" y="5329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74640" y="4230720"/>
                <a:ext cx="5986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648400" y="4336920"/>
                <a:ext cx="555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40520" y="4241880"/>
                <a:ext cx="555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710400" y="4210200"/>
                <a:ext cx="4730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6" name=""/>
          <p:cNvGrpSpPr/>
          <p:nvPr/>
        </p:nvGrpSpPr>
        <p:grpSpPr>
          <a:xfrm>
            <a:off x="4670280" y="5016600"/>
            <a:ext cx="3586320" cy="459720"/>
            <a:chOff x="4670280" y="5016600"/>
            <a:chExt cx="3586320" cy="459720"/>
          </a:xfrm>
        </p:grpSpPr>
        <p:sp>
          <p:nvSpPr>
            <p:cNvPr id="127" name=""/>
            <p:cNvSpPr/>
            <p:nvPr/>
          </p:nvSpPr>
          <p:spPr>
            <a:xfrm>
              <a:off x="4670280" y="5245200"/>
              <a:ext cx="358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76120" y="5016600"/>
              <a:ext cx="337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     l    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210360" y="53402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70560" y="5105520"/>
            <a:ext cx="304920" cy="304560"/>
          </a:xfrm>
          <a:prstGeom prst="ellipse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2000" y="5245200"/>
            <a:ext cx="163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7960" y="5353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35720" y="5329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014800" y="4230720"/>
                <a:ext cx="5986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75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75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75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75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75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75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75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75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75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75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75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75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75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99880" y="1281240"/>
                <a:ext cx="35546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lt;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749600" y="1874880"/>
                <a:ext cx="10206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884320" y="1924200"/>
                <a:ext cx="10162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790560" y="2576520"/>
            <a:ext cx="327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133720" y="2664000"/>
                <a:ext cx="55548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1" name=""/>
          <p:cNvGraphicFramePr/>
          <p:nvPr/>
        </p:nvGraphicFramePr>
        <p:xfrm>
          <a:off x="2755800" y="2668680"/>
          <a:ext cx="55584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5800" y="2668680"/>
                    <a:ext cx="5558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365640" y="2589120"/>
                <a:ext cx="5094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487440" y="3794040"/>
            <a:ext cx="5105160" cy="459720"/>
            <a:chOff x="487440" y="3794040"/>
            <a:chExt cx="5105160" cy="459720"/>
          </a:xfrm>
        </p:grpSpPr>
        <p:sp>
          <p:nvSpPr>
            <p:cNvPr id="145" name=""/>
            <p:cNvSpPr/>
            <p:nvPr/>
          </p:nvSpPr>
          <p:spPr>
            <a:xfrm>
              <a:off x="487440" y="4022640"/>
              <a:ext cx="51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9720" y="379404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             l            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773440" y="41306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3870360"/>
            <a:ext cx="30492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01480" y="4022640"/>
            <a:ext cx="24084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7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olve and graph the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04760" y="4130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56160" y="41450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75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75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7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7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7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7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00160" y="1185840"/>
                <a:ext cx="49766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02000" y="1928880"/>
                <a:ext cx="9763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122720" y="1963800"/>
                <a:ext cx="9730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978200" y="2638440"/>
            <a:ext cx="32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016080" y="2755800"/>
                <a:ext cx="5558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624120" y="2738520"/>
                <a:ext cx="555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456080" y="2666880"/>
                <a:ext cx="370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1" name=""/>
          <p:cNvGrpSpPr/>
          <p:nvPr/>
        </p:nvGrpSpPr>
        <p:grpSpPr>
          <a:xfrm>
            <a:off x="487440" y="3794040"/>
            <a:ext cx="5105160" cy="459720"/>
            <a:chOff x="487440" y="3794040"/>
            <a:chExt cx="5105160" cy="459720"/>
          </a:xfrm>
        </p:grpSpPr>
        <p:sp>
          <p:nvSpPr>
            <p:cNvPr id="162" name=""/>
            <p:cNvSpPr/>
            <p:nvPr/>
          </p:nvSpPr>
          <p:spPr>
            <a:xfrm>
              <a:off x="487440" y="4022640"/>
              <a:ext cx="51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9720" y="379404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             l            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773440" y="41306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3870360"/>
            <a:ext cx="30492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82760" y="4022640"/>
            <a:ext cx="24688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7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olve and graph the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04760" y="4130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56160" y="41450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7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7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7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7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06400" y="1258920"/>
                <a:ext cx="391176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362320" y="1935000"/>
                <a:ext cx="88740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786120" y="1925640"/>
                <a:ext cx="8841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978200" y="2638440"/>
            <a:ext cx="32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17640" y="2795760"/>
                <a:ext cx="60336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259080" y="2692440"/>
                <a:ext cx="5558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021200" y="2660760"/>
                <a:ext cx="5079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8" name=""/>
          <p:cNvGrpSpPr/>
          <p:nvPr/>
        </p:nvGrpSpPr>
        <p:grpSpPr>
          <a:xfrm>
            <a:off x="487440" y="3794040"/>
            <a:ext cx="5105160" cy="459720"/>
            <a:chOff x="487440" y="3794040"/>
            <a:chExt cx="5105160" cy="459720"/>
          </a:xfrm>
        </p:grpSpPr>
        <p:sp>
          <p:nvSpPr>
            <p:cNvPr id="179" name=""/>
            <p:cNvSpPr/>
            <p:nvPr/>
          </p:nvSpPr>
          <p:spPr>
            <a:xfrm>
              <a:off x="487440" y="4022640"/>
              <a:ext cx="51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9720" y="379404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             l            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773440" y="41306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387036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82760" y="4022640"/>
            <a:ext cx="24688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7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olve and graph the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8800" y="41306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56160" y="41450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75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75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75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75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75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75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60280" y="1200240"/>
                <a:ext cx="49770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502000" y="1928880"/>
                <a:ext cx="9763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122720" y="1963800"/>
                <a:ext cx="9730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978200" y="2638440"/>
            <a:ext cx="32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984400" y="2787480"/>
                <a:ext cx="557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594240" y="2722680"/>
                <a:ext cx="5554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118040" y="2644920"/>
                <a:ext cx="10173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" name=""/>
          <p:cNvGrpSpPr/>
          <p:nvPr/>
        </p:nvGrpSpPr>
        <p:grpSpPr>
          <a:xfrm>
            <a:off x="487440" y="3794040"/>
            <a:ext cx="5105160" cy="459720"/>
            <a:chOff x="487440" y="3794040"/>
            <a:chExt cx="5105160" cy="459720"/>
          </a:xfrm>
        </p:grpSpPr>
        <p:sp>
          <p:nvSpPr>
            <p:cNvPr id="196" name=""/>
            <p:cNvSpPr/>
            <p:nvPr/>
          </p:nvSpPr>
          <p:spPr>
            <a:xfrm>
              <a:off x="487440" y="4022640"/>
              <a:ext cx="51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9720" y="379404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             l            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666880" y="413064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387036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39200" y="4022640"/>
            <a:ext cx="25146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7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olve and graph the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8560" y="413064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19720" y="414504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862280" y="1401840"/>
                <a:ext cx="5648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608200" y="1401840"/>
                <a:ext cx="56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75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75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75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75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75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75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305, 12 – 3 #1-10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309, 12 – 5 #1-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6-05-10T19:23:08Z</dcterms:modified>
  <cp:revision>31</cp:revision>
  <dc:subject/>
  <dc:title>Slide 1</dc:title>
</cp:coreProperties>
</file>